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355A5-4FE5-46AB-84F7-19B3F95A63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AA587-447E-4837-91D0-F18F84C06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E22B4-BCCF-4829-886E-85F04BC1F6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5F520-B586-469E-95D9-BA1BF7DB9C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irror to observe tee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C1A-81F8-414E-B680-317643BE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87E-F551-48AD-AB99-7EF65599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604-DF72-4B1D-87D1-96931D6D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9AB-EEFB-49A4-8284-80F0673E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7D51-5752-43E0-8440-BCF90883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29B9-430D-470B-B54C-A6C341B4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4952-9D9F-48C1-B493-4E487113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0BE6-53A1-4148-B361-BC0A7A16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503E-006A-48E2-A39D-B7D6E9F3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3063-45B3-47D9-9337-99CA57D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8FDC-C34D-4771-BD7F-CBDCDFF0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D2F-45C5-4D9C-93A5-B5B1609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4EB5-EA7A-47FC-B06D-CB7C6410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A5BD-BAB8-464F-9B05-7A843C67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2EEB-E4B2-49C4-9788-EA1AC8A2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335D-E1D1-497B-B3AB-4F20FC6B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6027-95BB-4384-9FB7-D01A776A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C22A-514F-4AB3-80EF-FC626E84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2507-9927-443E-9E9C-11157B0D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F80B-C37A-4855-A3BE-9F66FAD9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EECE-94C8-42B8-941A-364ABB83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09EA-63B4-45D0-8CED-5CFCB8A1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BD8-ED5F-4349-ADC1-386BCA98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B9F6-6DB7-4805-A377-1EF0FD37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CDBD-7E89-465E-B81B-829ADB3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9C0A-C540-4CB3-AFF0-9C0055E9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678A-E937-41E4-99A7-9B82052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CDFD8-8369-49B1-862A-1AF87A4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FBFD-7BBE-4975-8263-304AAC82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007F-5069-4FD9-8E5F-D990815E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FA47-4039-4F0E-B347-AFE3896A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6D06-5B72-47F8-88BD-B1E0A1DE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EC91-60D3-421A-93EE-24F23FF8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70E-C4B0-4E7F-B7CA-09ACB107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67E9-629A-4813-9555-8DEDF56B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284C-DB9E-418F-AD23-FD6FE356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71F52-4619-45D0-A7DC-41C3A0CC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2427-F347-4CDD-B90F-B7EB03A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F211-BA7E-4DA5-9279-0D0F906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39655-8E4F-431B-92DC-E78554E4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1C5F6-FD63-4D94-900C-6468D976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AE4A-78C4-4123-A84F-3BC063F1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48F93-04F2-4A32-8BD7-2193605B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D8E4-51C6-441D-A29D-B4CD9343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4DF-333E-4936-BD2F-956396AE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DF1B6-DCBE-4D2F-B515-CD7C57B0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F9A96-44F7-46CF-86E6-F705B732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3109-2382-44BC-9096-C13C6B6E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A4A01-4C23-4291-A4FE-D66F0A5A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D8ECE-8082-469F-8BAE-BE89B6EC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0436-49DA-40DF-95D3-A0C19EB0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A1632-20C8-4169-A3CA-16F6F09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F74E8-0037-41E7-B68A-4D5E6A1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37CF3-851F-48E5-9D0E-A6669631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93E9-5AD6-4490-A807-45A12CB0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D4A-E332-4A99-B03C-17972004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367B-5FDF-43A6-9F7B-04035403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5BC89-9093-4C59-A7ED-2E1566E2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2CC9-8547-4F7C-A702-8D7F7444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17B28-F21A-42C2-8B8E-030D1658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7ACD-C38E-42E9-AFB7-96FA5C25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E0B7F-FDB3-4186-A726-8EC85B63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6F961-DBBA-4124-AB70-08D4BB85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BD0AC-2A23-4A77-8C9D-1AAEEF1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7DA7A-C072-42C3-815F-4AAF48D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A624-A8A2-4622-834D-11DCEBED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50A-F81D-4F9C-A729-0E300A40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1816-C310-4496-967C-7E96D24F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1F825-8181-44A2-ABDB-CACBDFAD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BC8B-3EAD-4E61-92B9-BF92D01D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95EE-694C-4B9B-BF53-67B6C713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4101A-154B-456D-A022-8DDEE577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D4E78-D74D-43AE-B6E9-64D54BC8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F46A-69F2-4C4D-B5E9-2028B58F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62D6-01CA-449B-9949-A4A6127F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84909-E561-4AA6-AAA9-879496CE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29149-1CD5-4D38-BC02-62F18B34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2E0-01ED-481F-8BE7-C8865FB7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175AA-8659-4602-A627-7ED964AB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E1360-0782-40D8-8D55-8FB67C7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8FE5A-8C2D-413C-B6E3-A81C40CF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E95F4-D6B1-4EC1-BCFC-3B786FDD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02B4E-85B6-421F-B956-50DBF398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516-367C-4921-AE0F-1CD1B95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03666-765D-4F50-A2DC-9DF211D1EFF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B1A5C-60FF-449B-BF0D-22C2B846BA5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61F3C-00E6-4AF1-BAD2-FE010A82687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49791-482B-4B48-B33A-089D8F84403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9655E-BFB5-4A67-8F4D-FECCD9F7F77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F3A0B-DFE9-4722-98BF-D20DC46C79D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5C5C8-67B6-4E92-A7C7-7922F173185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87A80-85E3-4BA7-8969-65784C4557A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15703-4DAA-447B-8B1A-318913F80FC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2DE4B-86A8-43DE-BE2D-0BE005ACF30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4C64F-FA2C-4E58-B9DE-C4D54A79980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F7D04-889D-4D21-985C-1ECEDECA0C7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82B9E-95FA-4FAE-9173-482AF61C032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BFD8B-88B1-400D-9931-5B63B08CB8F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eb.archive.org/web/20080406073310/http://hopkins-gi.org/multimedia/database/intro_250_Swallow.swf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11592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son 6:  The Digestive System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3" descr="the-amazing-human-body-exhibition1.jpg"/>
          <p:cNvPicPr/>
          <p:nvPr/>
        </p:nvPicPr>
        <p:blipFill>
          <a:blip r:embed="rId1"/>
          <a:stretch/>
        </p:blipFill>
        <p:spPr>
          <a:xfrm>
            <a:off x="5410080" y="1219320"/>
            <a:ext cx="2989440" cy="4354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HumanBody.187222308_std.jpg"/>
          <p:cNvPicPr/>
          <p:nvPr/>
        </p:nvPicPr>
        <p:blipFill>
          <a:blip r:embed="rId2"/>
          <a:stretch/>
        </p:blipFill>
        <p:spPr>
          <a:xfrm>
            <a:off x="1432080" y="2487600"/>
            <a:ext cx="3617640" cy="30862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5"/>
          <p:cNvSpPr/>
          <p:nvPr/>
        </p:nvSpPr>
        <p:spPr>
          <a:xfrm>
            <a:off x="1332000" y="557388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. Function of digestiv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2. Function of mouth and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"/>
          <p:cNvPicPr/>
          <p:nvPr/>
        </p:nvPicPr>
        <p:blipFill>
          <a:blip r:embed="rId1"/>
          <a:stretch/>
        </p:blipFill>
        <p:spPr>
          <a:xfrm>
            <a:off x="4786200" y="47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2"/>
          <a:stretch/>
        </p:blipFill>
        <p:spPr>
          <a:xfrm>
            <a:off x="635796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1434960" y="304920"/>
            <a:ext cx="7499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at’s in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saliva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what does it do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t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kes food sof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uc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lps food slide down the esophag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icarbonate 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eutralize acid produced by bacteria (helps prevent tooth decay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livary amyl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reaks down starch in the presence of wa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Gill Sans MT"/>
              </a:rPr>
              <a:t>Starch 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Gill Sans MT"/>
              </a:rPr>
              <a:t>maltose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(a disaccharide of glucose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uch saliva do you produce in a 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bout 1-2 litres!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4"/>
          <a:stretch/>
        </p:blipFill>
        <p:spPr>
          <a:xfrm>
            <a:off x="142920" y="885960"/>
            <a:ext cx="21621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Tour of the Diges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Tongue, teeth, salivary glands, pharynx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ophag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piglottis and chok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eristalsi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Cardiac and pyloric sphincters and stomach cell typ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 and gastric secre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Digestion enzymes, pH balance and maintenance of blood sug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iver / Gall blad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Roles in digestion and other body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Specialization – structure and function three sections and of the vill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nzyme a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arge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Functions and anaerobic bacteria with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Rectum and An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xpulsion of was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5929200" y="1515960"/>
            <a:ext cx="3214800" cy="25732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veling to the stomach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920"/>
            <a:ext cx="7499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Esophagu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ube from pharynx to stoma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h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ucus membra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s the food slide dow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shes the food down the tub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od moves down by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peristalsi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6500880" y="4635360"/>
            <a:ext cx="2428920" cy="2222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3"/>
          <a:stretch/>
        </p:blipFill>
        <p:spPr>
          <a:xfrm>
            <a:off x="3500280" y="4587840"/>
            <a:ext cx="20671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-2289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istalsis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(and reverse peristalsis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540720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 long does peristalsis tak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bout 9 seconds from pharynx to stomach (rate of 2-4cm/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Swallowing Anim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5996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allowing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bolus enters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HARYN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vula moves bac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ver openings to no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rachea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to the lungs)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ves 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piglottis covers the trachea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so that you don`t choke!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od goes down by peristalsis to the stom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allowing in ac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-787320" y="1650960"/>
            <a:ext cx="101599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92240" y="3240"/>
            <a:ext cx="80517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What does your digestive system look like?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3886200" y="2514600"/>
            <a:ext cx="762120" cy="2743200"/>
          </a:xfrm>
          <a:prstGeom prst="can">
            <a:avLst>
              <a:gd name="adj" fmla="val 688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2819520" y="2971800"/>
            <a:ext cx="121896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4495680" y="2971800"/>
            <a:ext cx="121932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 rot="18142800">
            <a:off x="2579400" y="5819760"/>
            <a:ext cx="182880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 rot="3418800">
            <a:off x="4109400" y="5774040"/>
            <a:ext cx="190512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5"/>
          <p:cNvGrpSpPr/>
          <p:nvPr/>
        </p:nvGrpSpPr>
        <p:grpSpPr>
          <a:xfrm>
            <a:off x="3840120" y="1871640"/>
            <a:ext cx="808200" cy="795240"/>
            <a:chOff x="3840120" y="1871640"/>
            <a:chExt cx="808200" cy="795240"/>
          </a:xfrm>
        </p:grpSpPr>
        <p:sp>
          <p:nvSpPr>
            <p:cNvPr id="336" name="Oval 4"/>
            <p:cNvSpPr/>
            <p:nvPr/>
          </p:nvSpPr>
          <p:spPr>
            <a:xfrm>
              <a:off x="3886200" y="1981080"/>
              <a:ext cx="7621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0"/>
            <p:cNvSpPr/>
            <p:nvPr/>
          </p:nvSpPr>
          <p:spPr>
            <a:xfrm>
              <a:off x="4038480" y="2133720"/>
              <a:ext cx="152640" cy="7596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1"/>
            <p:cNvSpPr/>
            <p:nvPr/>
          </p:nvSpPr>
          <p:spPr>
            <a:xfrm>
              <a:off x="4343400" y="2133720"/>
              <a:ext cx="152280" cy="7596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3840120" y="1871640"/>
              <a:ext cx="696960" cy="309600"/>
            </a:xfrm>
            <a:prstGeom prst="pie">
              <a:avLst/>
            </a:prstGeom>
            <a:solidFill>
              <a:srgbClr val="4f271c"/>
            </a:solidFill>
            <a:ln w="9360">
              <a:solidFill>
                <a:srgbClr val="4f27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4267080" y="220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14"/>
          <p:cNvSpPr/>
          <p:nvPr/>
        </p:nvSpPr>
        <p:spPr>
          <a:xfrm>
            <a:off x="4125960" y="24382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22"/>
          <p:cNvGrpSpPr/>
          <p:nvPr/>
        </p:nvGrpSpPr>
        <p:grpSpPr>
          <a:xfrm>
            <a:off x="1028880" y="1949400"/>
            <a:ext cx="3009600" cy="642600"/>
            <a:chOff x="1028880" y="1949400"/>
            <a:chExt cx="3009600" cy="642600"/>
          </a:xfrm>
        </p:grpSpPr>
        <p:sp>
          <p:nvSpPr>
            <p:cNvPr id="343" name="Text Box 16"/>
            <p:cNvSpPr/>
            <p:nvPr/>
          </p:nvSpPr>
          <p:spPr>
            <a:xfrm>
              <a:off x="1028880" y="19494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he tube starts her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1981080" y="2438280"/>
              <a:ext cx="20574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AutoShape 19"/>
          <p:cNvSpPr/>
          <p:nvPr/>
        </p:nvSpPr>
        <p:spPr>
          <a:xfrm>
            <a:off x="4191120" y="2590920"/>
            <a:ext cx="142920" cy="1087200"/>
          </a:xfrm>
          <a:prstGeom prst="can">
            <a:avLst>
              <a:gd name="adj" fmla="val 3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866880" y="284796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d although there are a few twists and turns along the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2209680" y="3733920"/>
            <a:ext cx="20574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4"/>
          <p:cNvSpPr/>
          <p:nvPr/>
        </p:nvSpPr>
        <p:spPr>
          <a:xfrm>
            <a:off x="4191120" y="3657600"/>
            <a:ext cx="152280" cy="762120"/>
          </a:xfrm>
          <a:prstGeom prst="can">
            <a:avLst>
              <a:gd name="adj" fmla="val 35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5"/>
          <p:cNvSpPr/>
          <p:nvPr/>
        </p:nvSpPr>
        <p:spPr>
          <a:xfrm>
            <a:off x="4191120" y="4343400"/>
            <a:ext cx="152280" cy="914400"/>
          </a:xfrm>
          <a:prstGeom prst="can">
            <a:avLst>
              <a:gd name="adj" fmla="val 3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6"/>
          <p:cNvSpPr/>
          <p:nvPr/>
        </p:nvSpPr>
        <p:spPr>
          <a:xfrm>
            <a:off x="949680" y="45766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t comes out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7"/>
          <p:cNvSpPr/>
          <p:nvPr/>
        </p:nvSpPr>
        <p:spPr>
          <a:xfrm>
            <a:off x="2514600" y="4952880"/>
            <a:ext cx="1676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8"/>
          <p:cNvSpPr/>
          <p:nvPr/>
        </p:nvSpPr>
        <p:spPr>
          <a:xfrm>
            <a:off x="6156360" y="3421080"/>
            <a:ext cx="2911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ything that goes in the top hole (mouth) does not become part of the body until it is broken down then absorbed though a series of specialized structu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at does the digestive system do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Gill Sans MT"/>
              </a:rPr>
              <a:t>DIGESTION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ill Sans MT"/>
              </a:rPr>
              <a:t>Mechanica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vs. </a:t>
            </a:r>
            <a:r>
              <a:rPr b="1" i="1" lang="en-US" sz="2200" spc="-1" strike="noStrike">
                <a:solidFill>
                  <a:srgbClr val="000000"/>
                </a:solidFill>
                <a:latin typeface="Gill Sans MT"/>
              </a:rPr>
              <a:t>chemica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diges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Mechanical is breaking the food into smaller piec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hemical is using enzymes and chemical reactions to break apart the molecule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Gill Sans MT"/>
              </a:rPr>
              <a:t>ABSORPTION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ving the broken down food into the blood or the lymph to be carried around the bod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Gill Sans MT"/>
              </a:rPr>
              <a:t>ELIMINATION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ting rid of anything that you can’t dige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38240" y="108000"/>
            <a:ext cx="890424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90360" y="65160"/>
            <a:ext cx="897732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6440" y="63360"/>
            <a:ext cx="8923320" cy="646596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"/>
          <p:cNvSpPr/>
          <p:nvPr/>
        </p:nvSpPr>
        <p:spPr>
          <a:xfrm>
            <a:off x="2458440" y="1619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3"/>
          <p:cNvSpPr/>
          <p:nvPr/>
        </p:nvSpPr>
        <p:spPr>
          <a:xfrm flipH="1">
            <a:off x="3228840" y="765000"/>
            <a:ext cx="936720" cy="10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1979640" y="530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9"/>
          <p:cNvSpPr/>
          <p:nvPr/>
        </p:nvSpPr>
        <p:spPr>
          <a:xfrm>
            <a:off x="3059280" y="5486400"/>
            <a:ext cx="9144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Tour of the Diges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ongue, teeth, salivary glands, pharynx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Esophag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piglottis and chok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Peristalsi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Cardiac and pyloric sphincters and stomach cell typ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 and gastric secre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Digestion enzymes, pH balance and maintenance of blood sug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iver / Gall blad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Roles in digestion and other body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Specialization – structure and function three sections and of the vill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nzyme a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arge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Functions and anaerobic bacteria with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Rectum and An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xpulsion of was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2314"/>
                </a:solidFill>
                <a:latin typeface="Gill Sans MT"/>
              </a:rPr>
              <a:t>The Mouth:  Where digestion begins</a:t>
            </a:r>
            <a:endParaRPr b="0" lang="en-US" sz="3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ard pal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the bony part at the top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oft pal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mposed of muscle tiss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uvula -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at hangs down in the back of your thro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stops liquid or food from coming out your nose when you swal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ngue – moves around the food and forms a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olu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 ball of foo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215040" y="464328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2"/>
          <a:srcRect l="0" t="0" r="0" b="9005"/>
          <a:stretch/>
        </p:blipFill>
        <p:spPr>
          <a:xfrm>
            <a:off x="7316640" y="128520"/>
            <a:ext cx="139860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teet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e are different types of teeth for different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11" descr="Image map  of  mouth  and  teeth"/>
          <p:cNvPicPr/>
          <p:nvPr/>
        </p:nvPicPr>
        <p:blipFill>
          <a:blip r:embed="rId1"/>
          <a:stretch/>
        </p:blipFill>
        <p:spPr>
          <a:xfrm>
            <a:off x="2895480" y="2133720"/>
            <a:ext cx="3963960" cy="413856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"/>
          <p:cNvSpPr/>
          <p:nvPr/>
        </p:nvSpPr>
        <p:spPr>
          <a:xfrm>
            <a:off x="4614840" y="601992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utting and chopping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6477120" y="1828800"/>
            <a:ext cx="237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harp pointed teeth for cutting and tearing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6994440" y="468468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rushing and grinding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6705720" y="3733920"/>
            <a:ext cx="21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rinding and mashing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47:49Z</dcterms:created>
  <dc:creator>Lisa Marcos</dc:creator>
  <dc:description/>
  <dc:language>en-US</dc:language>
  <cp:lastModifiedBy>laboratorios</cp:lastModifiedBy>
  <dcterms:modified xsi:type="dcterms:W3CDTF">2013-04-05T19:01:20Z</dcterms:modified>
  <cp:revision>52</cp:revision>
  <dc:subject/>
  <dc:title>The Digestive System Biology 12</dc:title>
</cp:coreProperties>
</file>